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3484782"/>
        <c:axId val="86188431"/>
      </c:barChart>
      <c:catAx>
        <c:axId val="1348478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188431"/>
        <c:crosses val="autoZero"/>
        <c:auto val="1"/>
        <c:lblAlgn val="ctr"/>
        <c:lblOffset val="100"/>
        <c:noMultiLvlLbl val="0"/>
      </c:catAx>
      <c:valAx>
        <c:axId val="8618843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48478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B89AF-3372-4BF1-B99F-F9BBFA107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250EA-0880-4BC8-945C-15DC063C7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64E0E-E4C2-4623-AFDB-ED6A466E4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1616F-DF7F-460F-8930-A086FD0AC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3B8BC-B114-4F93-803E-002EFFDF0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CD3F3-256B-43F3-9237-BA4D2E8F2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5AB4C-B5E3-47B1-8EB9-780A4AC5B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DA5E4-BE95-4D6D-AC51-1447A3B85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89F7E-9437-444B-925D-79E0E48F5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E7045-3FAB-412E-B13B-B5C621761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C5F69-4DE6-42B9-94D7-CB6919FC2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C1089-35B4-4335-BCCF-0ADB420EF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A8E2E2-7820-4A30-8BA2-97077CCB4BC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