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395956"/>
        <c:axId val="67392160"/>
      </c:barChart>
      <c:catAx>
        <c:axId val="973959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392160"/>
        <c:crosses val="autoZero"/>
        <c:auto val="1"/>
        <c:lblAlgn val="ctr"/>
        <c:lblOffset val="100"/>
        <c:noMultiLvlLbl val="0"/>
      </c:catAx>
      <c:valAx>
        <c:axId val="673921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3959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6477-B012-4FA4-A07D-F15195142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329F-61E0-49CE-ABE9-2E04A0F3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76EB-2F4E-45A1-B79F-21DB4D4F5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EDB5-4CA8-4FFE-9B76-791A78870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69D3-0B41-46CC-A593-C787BB1F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5BC4-367D-4E86-8B82-D0261D3F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A04B-E72F-448A-A31C-89E83BC48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5E3E-3980-433A-A709-9297E881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2EDA-4508-4FFD-99C3-0768B477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29B9-3118-4721-B862-D847C9C1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0CF3-F14C-4B6B-9C98-0641F605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71BD-31BA-42D2-AC55-19D2DA5E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7994FB-A912-4E8D-BEAB-40D5B6B7E7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