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93414"/>
        <c:axId val="7638316"/>
      </c:barChart>
      <c:catAx>
        <c:axId val="88793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8316"/>
        <c:crosses val="autoZero"/>
        <c:auto val="1"/>
        <c:lblAlgn val="ctr"/>
        <c:lblOffset val="100"/>
        <c:noMultiLvlLbl val="0"/>
      </c:catAx>
      <c:valAx>
        <c:axId val="7638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93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15C2-190F-4867-AAF0-B169C8E6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B47-297F-45F2-B3C8-1887D30E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947-3494-47BD-92B3-BBDFA789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86A9-4F94-4F95-8851-B0BF54B3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CB3C-CE6D-43FA-8DE1-7843EBF7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84EF-7DE3-4751-82E7-BD9EB986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C08-8E2D-4C3A-A5D8-E75A2D91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3566-A19C-4297-9302-48319C5C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BDA5-8EC7-4ABF-821C-C50ED382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7BD-2036-4413-B688-812F5F89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9E4B-1983-4700-9AA0-3AEA76BE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BD47-4556-4495-9D9A-4C7B23A4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52974-C3D2-4084-A69C-5FBA0ED800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