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54566"/>
        <c:axId val="33329738"/>
      </c:barChart>
      <c:catAx>
        <c:axId val="905545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29738"/>
        <c:crosses val="autoZero"/>
        <c:auto val="1"/>
        <c:lblAlgn val="ctr"/>
        <c:lblOffset val="100"/>
        <c:noMultiLvlLbl val="0"/>
      </c:catAx>
      <c:valAx>
        <c:axId val="333297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545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124-4BDC-4805-BE97-97F592A2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7AC-1509-42C1-8A78-B73CDC15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CC79-C02B-43EE-9CCD-B2BADC6B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1B38-7B8B-450C-A5BB-C9A0DBC9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C8DB-0228-43FA-A145-C5DDD8EB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7FF-7A9D-4B56-8B79-89C84A41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FEC-0156-4144-9FC4-C2DC7312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0553-56BA-4817-9DB8-7C222A36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5F2-7DEE-44A4-8256-82E630B8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2C3-D7C1-435F-BE7F-8DADDDDA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4480-39B2-4238-879F-83F662E8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4964-8FFA-4B9C-9CE7-041D96BB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D296B-AD10-4142-A36E-2932DF9FF9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