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19257"/>
        <c:axId val="58239904"/>
      </c:barChart>
      <c:catAx>
        <c:axId val="90519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39904"/>
        <c:crosses val="autoZero"/>
        <c:auto val="1"/>
        <c:lblAlgn val="ctr"/>
        <c:lblOffset val="100"/>
        <c:noMultiLvlLbl val="0"/>
      </c:catAx>
      <c:valAx>
        <c:axId val="58239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19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1A3-D8AA-4900-B3E0-84877637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53D-9C70-4184-8DBD-F40847D6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BCC-CBAF-4D6A-871D-EBCECB3B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270-D68E-4BDD-B9B6-AE1C5AB9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861-96CC-477D-92C9-1823FB1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75F-1DC8-4D2B-A8A9-8F3AA236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CF9-C85E-4C43-B232-B82E59F1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D09-2FBE-4865-BA2E-8A5D63C3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750-F0E0-4539-A5E5-C43FD3C6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9BC-898D-465F-9220-D3C629E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163-4A9E-4A31-85CA-455BAF1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0C8-EA7B-475E-AE88-7C6B701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C689E-4C32-4CD2-A5AB-DE1C1DBCE1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