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669732"/>
        <c:axId val="23335947"/>
      </c:barChart>
      <c:catAx>
        <c:axId val="996697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35947"/>
        <c:crosses val="autoZero"/>
        <c:auto val="1"/>
        <c:lblAlgn val="ctr"/>
        <c:lblOffset val="100"/>
        <c:noMultiLvlLbl val="0"/>
      </c:catAx>
      <c:valAx>
        <c:axId val="233359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6697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5519-23C9-40E8-BC07-2C5C5A1D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4949-361F-4592-9657-148E9DFB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CE7B-B585-47C3-A872-514B578FB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79FA-DE4C-4498-8E03-C978D7134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A3F4-A349-4E54-A2F2-18F66640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4BF8-360E-49E2-B6DD-6544444F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F18D-D7A3-4D79-AB1B-AB803282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242B-D907-4424-B082-5DB341A8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20C5-AF2A-48D0-9F58-76266B3C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EE2F-6726-43A5-B159-4ED10ED3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F9D0-2484-4EEE-9637-5AC5098B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5058-4C0A-491A-99B4-F0958028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10F17F-268E-43E8-A9BA-95BCFB3DC8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