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34638"/>
        <c:axId val="50158376"/>
      </c:barChart>
      <c:catAx>
        <c:axId val="77634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58376"/>
        <c:crosses val="autoZero"/>
        <c:auto val="1"/>
        <c:lblAlgn val="ctr"/>
        <c:lblOffset val="100"/>
        <c:noMultiLvlLbl val="0"/>
      </c:catAx>
      <c:valAx>
        <c:axId val="50158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34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72D7-3076-49A8-ADE2-6B3DF98E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8E6-74EC-4A24-80D3-07B9C6F4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CDC-5223-44F8-A4B9-DC8BC260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BD8-44F8-41C4-9830-FAEE92E4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05D-0882-4C6C-BA48-A3E2ECF7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AE3-18AE-4469-8C0D-C3C4E532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037-A6EF-4F31-BB00-47A3DE88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0C8-2492-41FB-B981-334E12C6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9AC-8B61-4CCF-9047-1FD6B63E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804-3B59-4EAE-9C2B-6F840BBA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84B-2E07-482C-80CE-A780F307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90AC-1BA7-432E-A0FE-19F018A0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9AD1C-727A-4378-B7EE-83B75FF467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