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25844"/>
        <c:axId val="7854126"/>
      </c:barChart>
      <c:catAx>
        <c:axId val="51325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4126"/>
        <c:crosses val="autoZero"/>
        <c:auto val="1"/>
        <c:lblAlgn val="ctr"/>
        <c:lblOffset val="100"/>
        <c:noMultiLvlLbl val="0"/>
      </c:catAx>
      <c:valAx>
        <c:axId val="7854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25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3F9-92AD-4643-8FD3-1E24A484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033-8B6F-48FC-B5C0-3EDAF270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B24-8041-4989-9836-22CFAD16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12A-2FBA-4017-B25E-4BD0E4FB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D78-0628-4964-A0F9-1D67969A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9F6-79A3-4133-B9AC-CB7A84EF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CBB-2F92-4963-980E-DAFB9234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A8F-9E9E-4F9C-9706-B567BE8D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91F-4F00-4D74-BB47-99E44E66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46D-7D35-411B-87FC-7996FA10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9A2-2B57-441B-A54D-6EE97E80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A8C-3232-424D-AE7E-1D2F7A2D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18272-5483-4DD2-ADCF-B7D445A670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