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65893"/>
        <c:axId val="13241576"/>
      </c:barChart>
      <c:catAx>
        <c:axId val="58865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41576"/>
        <c:crosses val="autoZero"/>
        <c:auto val="1"/>
        <c:lblAlgn val="ctr"/>
        <c:lblOffset val="100"/>
        <c:noMultiLvlLbl val="0"/>
      </c:catAx>
      <c:valAx>
        <c:axId val="13241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65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74F-833F-4FEE-853F-CEEC376F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E12-ED3D-4F81-BD8B-4BD77CDA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508-1514-4455-8CBD-B5639FD4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317-59E3-40FD-BE6C-8B5D63F8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64C-0A66-4ACB-97F8-9C72556E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AA7-6C3F-4213-A1F9-5D9A58AA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C1C-EA66-4003-9D88-0410F062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195-2162-4F34-B24A-2B70B517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67D-FFBE-40B6-B301-C4CF99D9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371-E522-4A04-B3A6-86E3F4F5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3E1-3CC0-4046-9764-C37E28CC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F3F-1CE6-4838-8918-3E4C4983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7F891-C99F-4971-BE8A-B37AB04E9B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