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617977"/>
        <c:axId val="44250425"/>
      </c:barChart>
      <c:catAx>
        <c:axId val="476179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50425"/>
        <c:crosses val="autoZero"/>
        <c:auto val="1"/>
        <c:lblAlgn val="ctr"/>
        <c:lblOffset val="100"/>
        <c:noMultiLvlLbl val="0"/>
      </c:catAx>
      <c:valAx>
        <c:axId val="442504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179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B078-72C5-4177-92E7-383433FC9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CB14-56CE-4A59-8829-6D118014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DACF-F4CD-441C-8DBF-377FF5A8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9242-15E4-45CC-9BDD-02F3A50C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5FDD-99B5-4967-AE6E-480D5A2C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22D3-B941-4DEF-B8A5-D5D725CF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7879-D1B5-436D-83C7-0407C4EE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FF8C-6FEE-4AC0-9086-4A2D940F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F2E6-F8E2-4715-96EA-A90B61D6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6798-D1E7-42F0-8653-DF89F4EC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98A5-5F8D-4696-B576-D5AD475E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59FF-087F-4AA0-AE07-449C5D2F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532BE-6D63-4748-B7FE-5594E50B1C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