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49870"/>
        <c:axId val="70197103"/>
      </c:barChart>
      <c:catAx>
        <c:axId val="80249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97103"/>
        <c:crosses val="autoZero"/>
        <c:auto val="1"/>
        <c:lblAlgn val="ctr"/>
        <c:lblOffset val="100"/>
        <c:noMultiLvlLbl val="0"/>
      </c:catAx>
      <c:valAx>
        <c:axId val="70197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49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525-9E6C-411A-9DD9-6D1D4743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829-30B1-40EC-8196-18794543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94D-00FF-4C02-8883-5C480DBE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F9C-368F-4A5E-BBF9-9A1AF3BB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3FD-D8FB-4043-897F-A38368A5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01A3-87A8-4E06-9A6C-E8CBFD4E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B49-1018-4A81-A4F8-CF482C0E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F10-3A04-472A-A15F-534AA2DE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492-3D3E-485B-A90B-C7C6D167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FCB-22F0-4ECA-96E9-7F5F5481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3A8-34F5-4872-970D-7AD5161B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484-7434-437B-A965-61659A19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FCDD7-F6EF-4422-897F-2A64D8EAFA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