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3051"/>
        <c:axId val="76820592"/>
      </c:barChart>
      <c:catAx>
        <c:axId val="26430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20592"/>
        <c:crosses val="autoZero"/>
        <c:auto val="1"/>
        <c:lblAlgn val="ctr"/>
        <c:lblOffset val="100"/>
        <c:noMultiLvlLbl val="0"/>
      </c:catAx>
      <c:valAx>
        <c:axId val="76820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30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8904-BF6B-4851-8DEE-36A3D0A1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2F30-0E98-457F-A6F3-36A7F76C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7B6-6357-4508-AE97-7A4D687B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6A41-2A1C-402E-A909-6D92B1AA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E758-2DF4-439A-98A1-226B29DF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E9FB-B5BC-4DB9-8DD9-433D3297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0B67-CD52-4105-BE82-27E6EC6A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628-7FED-4FC5-8C9B-4BC20AFF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FC1-9270-422B-852F-376E6735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E8C-4759-4D12-83B4-CE04BBBC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EC92-C37A-4E7E-B487-AD18B53F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B7EF-9C12-4201-92C3-345FFAF5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8C65C-3B90-4540-AD2A-E81A505052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