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733671"/>
        <c:axId val="95038734"/>
      </c:barChart>
      <c:catAx>
        <c:axId val="997336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038734"/>
        <c:crosses val="autoZero"/>
        <c:auto val="1"/>
        <c:lblAlgn val="ctr"/>
        <c:lblOffset val="100"/>
        <c:noMultiLvlLbl val="0"/>
      </c:catAx>
      <c:valAx>
        <c:axId val="950387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7336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C97E-D85A-4019-981D-8D4954358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DDC5-CEC7-405B-BC1F-2E0ADEBA6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D109-0DEA-49FA-9CD4-AB94C6E77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5DD8-F9E9-4588-9FB6-CCC7F71E1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6C08-3C1B-4D96-91C3-E96D40E30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AFDE-1DAA-4B7D-937D-DC37A9B7A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51E5-D914-46FE-9941-31E341A4A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BCF3-216E-4263-9A55-0D471E065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5D21-15AB-49FD-9E07-66FBE0E9D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1E0F-29E7-42C7-BE0A-D5685898E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C81F-17D5-4C98-B955-A70D526EF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B221-D0D9-4C55-9D92-B10775732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7B46A3-8545-406C-96FA-1AA3AD048AA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