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651852"/>
        <c:axId val="99777995"/>
      </c:barChart>
      <c:catAx>
        <c:axId val="596518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777995"/>
        <c:crosses val="autoZero"/>
        <c:auto val="1"/>
        <c:lblAlgn val="ctr"/>
        <c:lblOffset val="100"/>
        <c:noMultiLvlLbl val="0"/>
      </c:catAx>
      <c:valAx>
        <c:axId val="997779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6518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0FAA-F70D-43B2-A161-F114F40C4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9B9B-DB86-4A3B-8413-8727ADB1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135A-1FE6-48F1-A954-D3E1BC6AB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DE5E-906F-48E1-AF70-2F8E5F7F2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57D5-195F-4C6A-ACA7-A034DF6C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2B38-BF13-4C98-B3C1-83B694B0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787F-FD7C-40AC-A695-909FA4FD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81C1-832F-44D8-8F4A-ADC9D0B2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2C3B-31CE-48DF-8248-F57F3FA6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CC7F-8669-49A0-965B-DE1F4AA5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6555-25F3-45EE-8B6E-2240943D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5656-7FAF-42CA-B081-C09A0E2B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20CEED-1A02-4D01-9C68-76B0F6631B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