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35484"/>
        <c:axId val="14501334"/>
      </c:barChart>
      <c:catAx>
        <c:axId val="46135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01334"/>
        <c:crosses val="autoZero"/>
        <c:auto val="1"/>
        <c:lblAlgn val="ctr"/>
        <c:lblOffset val="100"/>
        <c:noMultiLvlLbl val="0"/>
      </c:catAx>
      <c:valAx>
        <c:axId val="14501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35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E04D-0D45-44B3-B1FC-4A1737C9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F5DD-AEA2-4305-BF55-C6B50838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CED4-F019-446C-B1B4-356302D8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BF0-4780-4345-8427-EF8F1FA3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BB9-FDAD-4DE7-9C1B-33E013E8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B437-4EB5-45CA-9616-805029D7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029-458D-4684-9928-7ED6526A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2E8-F81B-4DF2-B2E9-AF575C33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739-D43D-452A-B28D-52BE09C3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CB4-5512-4731-9013-1197CEB8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4CE5-5FA4-4286-9D22-1C855410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28C-E2C4-4768-9B43-689E78E2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E2666-3F3C-4E83-B38B-6E091A8CA7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