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69849"/>
        <c:axId val="68495366"/>
      </c:barChart>
      <c:catAx>
        <c:axId val="51869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5366"/>
        <c:crosses val="autoZero"/>
        <c:auto val="1"/>
        <c:lblAlgn val="ctr"/>
        <c:lblOffset val="100"/>
        <c:noMultiLvlLbl val="0"/>
      </c:catAx>
      <c:valAx>
        <c:axId val="68495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69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D95-7020-48E4-8721-F55F2A63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7AD-149A-4FFE-936D-844FE7E1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F9E-3939-4D35-8E10-778978B2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04C-D330-43D7-A0CD-53AB9CFA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053-A938-49B7-BF73-4DB6538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B84-29B4-417D-814E-B4767AD9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9AC-CFC4-4E14-8081-623569AE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A9-1EFC-41B3-A9DA-2676E3E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4FB-C2BB-4843-8977-80317927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9D0-DB3E-4D85-9BDA-19C1C3D9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7FA-417B-4135-928C-43997F1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6FD-B587-4ED8-9942-67EE0E3F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FB354-02C4-4A84-9F64-2FB3D0F0A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