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36515"/>
        <c:axId val="58846319"/>
      </c:barChart>
      <c:catAx>
        <c:axId val="30336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6319"/>
        <c:crosses val="autoZero"/>
        <c:auto val="1"/>
        <c:lblAlgn val="ctr"/>
        <c:lblOffset val="100"/>
        <c:noMultiLvlLbl val="0"/>
      </c:catAx>
      <c:valAx>
        <c:axId val="58846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36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6CD-33C7-46EC-9F39-C475AAC6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0BD-1A06-4073-844A-FB720B27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2CC-A40E-4EBD-AD3C-E3FF1F06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179-123B-49D8-BD3C-84D43EC5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C3E-44AF-4E15-8085-D93CCF3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4D6-AC4C-40D7-8F36-A2CCE192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753-0414-4A1E-BD9B-796D71F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B6E-5B03-4950-BC6F-FBFF3AFF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334-8D61-41C1-820F-0BBF3140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4A0-D8C7-439B-92E7-9870ADA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C6A-2820-4DFA-8C8F-E76F8160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BCC-B6D5-41B7-8136-2E11415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05D6E-AF86-4713-BCA8-8A0168324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