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703401"/>
        <c:axId val="72900258"/>
      </c:barChart>
      <c:catAx>
        <c:axId val="407034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00258"/>
        <c:crosses val="autoZero"/>
        <c:auto val="1"/>
        <c:lblAlgn val="ctr"/>
        <c:lblOffset val="100"/>
        <c:noMultiLvlLbl val="0"/>
      </c:catAx>
      <c:valAx>
        <c:axId val="729002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034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B0B8-2F0C-4FB6-9323-822A82E65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A2E0-BD92-4179-832C-B7725BC3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5A53-6629-4271-ABAD-A279C5488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4457-80A5-4852-93A7-92DDED673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F0D8-6192-46B5-96D4-5A7E98E9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E1AB-2F6B-450D-ADB7-98302030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CF72-83CE-4015-A0A9-7ACDC4D2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CAB5-9DD5-475F-A08E-64E91739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1599-44CE-48A8-AAA0-EAE08A2C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471A-5979-478F-88E4-030342C2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7B89-5262-4755-8910-DC25667E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FB19-C906-4E33-BADE-D8805175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A99F4F-D6D1-417B-B79B-6C87FB0273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