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769354"/>
        <c:axId val="19966320"/>
      </c:barChart>
      <c:catAx>
        <c:axId val="177693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66320"/>
        <c:crosses val="autoZero"/>
        <c:auto val="1"/>
        <c:lblAlgn val="ctr"/>
        <c:lblOffset val="100"/>
        <c:noMultiLvlLbl val="0"/>
      </c:catAx>
      <c:valAx>
        <c:axId val="199663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693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3605-FF9B-4FB5-85C9-A9BDED184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F82D-DBEA-4B92-ABE2-7E9D8D75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9C1B-1539-4AC0-8213-5C076CDA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8778-7086-463F-BA59-637C06BE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0A28-24F5-4662-AA09-54556463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FA20-726D-4425-AA9A-D423B051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9ADA-32D4-4C5F-8E4E-33A6A81D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A9FB-C8B5-4E56-82B8-7FC2DF43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7A52-18DB-486B-AC95-5CE3E4C4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E91F-AE24-4F76-8C40-60BE18E3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02EF-A2CE-4E4E-85FA-1EF5C739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3D82-E0DD-491A-BF5F-F7CC6AAF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0CCB4-25D2-42E3-97B6-70612B4C67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