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54599"/>
        <c:axId val="96893442"/>
      </c:barChart>
      <c:catAx>
        <c:axId val="91454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3442"/>
        <c:crosses val="autoZero"/>
        <c:auto val="1"/>
        <c:lblAlgn val="ctr"/>
        <c:lblOffset val="100"/>
        <c:noMultiLvlLbl val="0"/>
      </c:catAx>
      <c:valAx>
        <c:axId val="96893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54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3F1-8EA2-40F8-8EF0-F167137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61A-2AB8-45B2-A07F-4B0BCE6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E28-EA46-4E3C-B930-C6691D37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E84-B3CB-42EF-853D-43FA0B8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AAD-EE38-4EC1-B638-9D7A415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FB0-C677-4D7E-922A-5EDAB6A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DDA-BAFB-4E67-A789-92FF401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701-9CB9-4B38-A5CD-94C85E07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18E-7419-4EC3-B462-1749686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FE9-759C-4876-98DD-0C2EE9A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1BB-BC6F-4730-AD50-D165A56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3CB-D05C-434B-B5A6-F7A9F44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1A999-AF7F-448A-AC6D-F04E759A0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