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57501"/>
        <c:axId val="22668676"/>
      </c:barChart>
      <c:catAx>
        <c:axId val="56575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668676"/>
        <c:crosses val="autoZero"/>
        <c:auto val="1"/>
        <c:lblAlgn val="ctr"/>
        <c:lblOffset val="100"/>
        <c:noMultiLvlLbl val="0"/>
      </c:catAx>
      <c:valAx>
        <c:axId val="226686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575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69EA-B44A-4433-86C9-19846F4B2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4218-973E-4B87-9242-F407D9605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1319-0169-49FA-941A-7BE0DE6CE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8ACC-EFD9-4848-AC88-4DBBB2ED5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43F5-22E9-4715-B17C-E5A089406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58C6-0794-4122-B39F-832B50108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B860-3FC3-40F3-94F6-7DA7B1359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D6D1-5D2F-4AC8-ACC4-F02C7AC06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9269-6054-4B10-BFD2-3A378B83D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AB11-AD6E-427E-B09E-D35E32562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2129-82C4-4168-9CC2-D868F906A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9250-FE86-424F-B1E2-0424F431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DC7C19-CC98-475E-9B78-CE8B0F8B7FA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