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18141"/>
        <c:axId val="97385082"/>
      </c:barChart>
      <c:catAx>
        <c:axId val="17018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85082"/>
        <c:crosses val="autoZero"/>
        <c:auto val="1"/>
        <c:lblAlgn val="ctr"/>
        <c:lblOffset val="100"/>
        <c:noMultiLvlLbl val="0"/>
      </c:catAx>
      <c:valAx>
        <c:axId val="97385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18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3C6-2B4A-4F6A-8213-20F15854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70D-46CA-4F51-BA96-6F9D7A94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D303-1005-4019-B4D0-9A09F625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8C4-681F-4B20-9E33-FDC3581A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172-8AB1-4F52-AE45-1384A243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7FA7-EFB9-4225-B9DB-14B894F9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DEB-F515-4D3F-AB58-B0A5D823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B2F0-7F27-4B9B-9176-15B491DD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8337-3A30-4ADB-AE9B-10A65E74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8FC-777C-4B57-B269-A9944CC8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9D96-CA4B-4401-BAA7-E39A4BE7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42F-9BE9-401F-8989-65316B79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AD86B-A181-4682-A0B8-BB9497880F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